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FC9D2BA4-CF47-4310-9824-623DDE89494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200" y="177840"/>
            <a:ext cx="7925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23200" y="677880"/>
            <a:ext cx="360" cy="1224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b9c4df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95360" y="90000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Transition from Discovery and Evalu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14760" y="90000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equire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Scoping &amp; Pla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4160" y="900000"/>
            <a:ext cx="214776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nterpris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Strategy Framewor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160" y="1405080"/>
            <a:ext cx="8878680" cy="5287320"/>
            <a:chOff x="38160" y="1405080"/>
            <a:chExt cx="8878680" cy="5287320"/>
          </a:xfrm>
        </p:grpSpPr>
        <p:grpSp>
          <p:nvGrpSpPr>
            <p:cNvPr id="50" name=""/>
            <p:cNvGrpSpPr/>
            <p:nvPr/>
          </p:nvGrpSpPr>
          <p:grpSpPr>
            <a:xfrm>
              <a:off x="38160" y="1405080"/>
              <a:ext cx="2160360" cy="5287320"/>
              <a:chOff x="38160" y="1405080"/>
              <a:chExt cx="2160360" cy="5287320"/>
            </a:xfrm>
          </p:grpSpPr>
          <p:sp>
            <p:nvSpPr>
              <p:cNvPr id="51" name=""/>
              <p:cNvSpPr/>
              <p:nvPr/>
            </p:nvSpPr>
            <p:spPr>
              <a:xfrm>
                <a:off x="38160" y="1896840"/>
                <a:ext cx="2147760" cy="3697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Content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8160" y="2374920"/>
                <a:ext cx="2147760" cy="3805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Technology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160" y="2851200"/>
                <a:ext cx="2147760" cy="4075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Developer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8160" y="3394080"/>
                <a:ext cx="2147760" cy="3931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UID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160" y="3895560"/>
                <a:ext cx="2147760" cy="4330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Knowledge Manag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8160" y="4460760"/>
                <a:ext cx="2147760" cy="4219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hange Manageme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8160" y="5003640"/>
                <a:ext cx="2147760" cy="3967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Line-of- Business Expert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8160" y="5502240"/>
                <a:ext cx="2147760" cy="37116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curity Exper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160" y="1405080"/>
                <a:ext cx="2147760" cy="4078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Verdana"/>
                  </a:rPr>
                  <a:t>Project Manag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0760" y="5968800"/>
                <a:ext cx="2147760" cy="3301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Technical Infrastructure Te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760" y="6362640"/>
                <a:ext cx="2147760" cy="32976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Key-Us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2301840" y="1490760"/>
              <a:ext cx="2146320" cy="5166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5000" y="1500120"/>
              <a:ext cx="2120760" cy="516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48560" y="1487520"/>
              <a:ext cx="2168280" cy="5166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87520" y="15368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87520" y="194328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10160" y="288288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10160" y="345456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87520" y="39625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10160" y="397512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22760" y="45086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87520" y="507996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22760" y="509256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509256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/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10160" y="638820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22760" y="15620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32440" y="158760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87520" y="24163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35360" y="19591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6280" y="242568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45338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10160" y="5549760"/>
            <a:ext cx="194292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10160" y="6006960"/>
            <a:ext cx="194292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3626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/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-76320" y="876240"/>
            <a:ext cx="2285640" cy="522000"/>
            <a:chOff x="-76320" y="876240"/>
            <a:chExt cx="2285640" cy="522000"/>
          </a:xfrm>
        </p:grpSpPr>
        <p:sp>
          <p:nvSpPr>
            <p:cNvPr id="86" name=""/>
            <p:cNvSpPr/>
            <p:nvPr/>
          </p:nvSpPr>
          <p:spPr>
            <a:xfrm>
              <a:off x="70920" y="918720"/>
              <a:ext cx="2078640" cy="4327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03400" y="87624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Work Packag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76320" y="112176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Project Ro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920" y="918720"/>
              <a:ext cx="2064960" cy="408600"/>
            </a:xfrm>
            <a:prstGeom prst="line">
              <a:avLst/>
            </a:prstGeom>
            <a:ln w="12600">
              <a:solidFill>
                <a:srgbClr val="8f96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423200" y="677880"/>
            <a:ext cx="360" cy="1224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b9c4df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95360" y="91296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ortal Governance Appro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14760" y="91296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Training and Documentation Strategy 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34160" y="912960"/>
            <a:ext cx="214776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Technical Standards and Proced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8160" y="1417680"/>
            <a:ext cx="8878680" cy="5288040"/>
            <a:chOff x="38160" y="1417680"/>
            <a:chExt cx="8878680" cy="5288040"/>
          </a:xfrm>
        </p:grpSpPr>
        <p:grpSp>
          <p:nvGrpSpPr>
            <p:cNvPr id="95" name=""/>
            <p:cNvGrpSpPr/>
            <p:nvPr/>
          </p:nvGrpSpPr>
          <p:grpSpPr>
            <a:xfrm>
              <a:off x="38160" y="1417680"/>
              <a:ext cx="2160360" cy="5288040"/>
              <a:chOff x="38160" y="1417680"/>
              <a:chExt cx="2160360" cy="5288040"/>
            </a:xfrm>
          </p:grpSpPr>
          <p:sp>
            <p:nvSpPr>
              <p:cNvPr id="96" name=""/>
              <p:cNvSpPr/>
              <p:nvPr/>
            </p:nvSpPr>
            <p:spPr>
              <a:xfrm>
                <a:off x="38160" y="1909800"/>
                <a:ext cx="2147760" cy="3700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Content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8160" y="2387880"/>
                <a:ext cx="2147760" cy="3808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Technology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160" y="2864160"/>
                <a:ext cx="2147760" cy="4078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Developer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8160" y="3407040"/>
                <a:ext cx="2147760" cy="3934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UID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8160" y="3908520"/>
                <a:ext cx="2147760" cy="43344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Knowledge Manag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160" y="4473720"/>
                <a:ext cx="2147760" cy="4222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hange Manageme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8160" y="5016600"/>
                <a:ext cx="2147760" cy="3970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Line-of- Business Expert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160" y="5515200"/>
                <a:ext cx="2147760" cy="3715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Verdana"/>
                  </a:rPr>
                  <a:t>Training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8160" y="1417680"/>
                <a:ext cx="2147760" cy="40824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Verdana"/>
                  </a:rPr>
                  <a:t>Project Manag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0760" y="5981760"/>
                <a:ext cx="2147760" cy="3304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Technical Infrastructure Te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0760" y="6375600"/>
                <a:ext cx="2147760" cy="3301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Key-Us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2301840" y="1503720"/>
              <a:ext cx="2146320" cy="516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45000" y="1513080"/>
              <a:ext cx="2120760" cy="5167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48560" y="1500480"/>
              <a:ext cx="2168280" cy="516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387520" y="15494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10160" y="289548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10160" y="346716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10160" y="398772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22760" y="45212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R/I/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87520" y="509256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22760" y="51055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599436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10160" y="640080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/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22760" y="15746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32440" y="160020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35360" y="19717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16280" y="243828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29462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63752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241308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-76320" y="888840"/>
            <a:ext cx="2285640" cy="522000"/>
            <a:chOff x="-76320" y="888840"/>
            <a:chExt cx="2285640" cy="522000"/>
          </a:xfrm>
        </p:grpSpPr>
        <p:sp>
          <p:nvSpPr>
            <p:cNvPr id="127" name=""/>
            <p:cNvSpPr/>
            <p:nvPr/>
          </p:nvSpPr>
          <p:spPr>
            <a:xfrm>
              <a:off x="70920" y="931320"/>
              <a:ext cx="2078640" cy="4327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03400" y="88884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Work Packag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-76320" y="113436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Project Ro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920" y="931320"/>
              <a:ext cx="2064960" cy="408600"/>
            </a:xfrm>
            <a:prstGeom prst="line">
              <a:avLst/>
            </a:prstGeom>
            <a:ln w="12600">
              <a:solidFill>
                <a:srgbClr val="8f96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610160" y="556272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8760" y="176040"/>
            <a:ext cx="7924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423200" y="677880"/>
            <a:ext cx="360" cy="1224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b9c4df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95360" y="91296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Implementation Standards and Procedur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14760" y="91296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8160" y="1417680"/>
            <a:ext cx="2160360" cy="5288040"/>
            <a:chOff x="38160" y="1417680"/>
            <a:chExt cx="2160360" cy="5288040"/>
          </a:xfrm>
        </p:grpSpPr>
        <p:sp>
          <p:nvSpPr>
            <p:cNvPr id="137" name=""/>
            <p:cNvSpPr/>
            <p:nvPr/>
          </p:nvSpPr>
          <p:spPr>
            <a:xfrm>
              <a:off x="38160" y="1909800"/>
              <a:ext cx="2147760" cy="3700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ortal Content 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160" y="2387880"/>
              <a:ext cx="2147760" cy="3808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ortal Technology 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160" y="2864160"/>
              <a:ext cx="2147760" cy="4078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ortal Develope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160" y="3407040"/>
              <a:ext cx="2147760" cy="3934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UID 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160" y="3908520"/>
              <a:ext cx="2147760" cy="43344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Knowledge 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60" y="4473720"/>
              <a:ext cx="2147760" cy="4222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Change Manageme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160" y="5016600"/>
              <a:ext cx="2147760" cy="3970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Line-of- Business Expert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160" y="5515200"/>
              <a:ext cx="2147760" cy="3715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Security Exper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160" y="1417680"/>
              <a:ext cx="2147760" cy="40824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Project Mana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760" y="5981760"/>
              <a:ext cx="2147760" cy="3304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Technical Infrastructure Team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760" y="6375600"/>
              <a:ext cx="2147760" cy="3301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Key-Us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301840" y="1503360"/>
            <a:ext cx="2146320" cy="516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45000" y="1512720"/>
            <a:ext cx="2120760" cy="516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87520" y="15494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7520" y="29462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22760" y="15746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87520" y="55627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00480" y="601992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-76320" y="888840"/>
            <a:ext cx="2285640" cy="522000"/>
            <a:chOff x="-76320" y="888840"/>
            <a:chExt cx="2285640" cy="522000"/>
          </a:xfrm>
        </p:grpSpPr>
        <p:sp>
          <p:nvSpPr>
            <p:cNvPr id="156" name=""/>
            <p:cNvSpPr/>
            <p:nvPr/>
          </p:nvSpPr>
          <p:spPr>
            <a:xfrm>
              <a:off x="70920" y="931320"/>
              <a:ext cx="2078640" cy="4327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03400" y="88884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Work Packag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-76320" y="113436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Project Ro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920" y="931320"/>
              <a:ext cx="2064960" cy="408600"/>
            </a:xfrm>
            <a:prstGeom prst="line">
              <a:avLst/>
            </a:prstGeom>
            <a:ln w="12600">
              <a:solidFill>
                <a:srgbClr val="8f96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730920" y="5386320"/>
            <a:ext cx="2362320" cy="685800"/>
            <a:chOff x="6730920" y="5386320"/>
            <a:chExt cx="2362320" cy="685800"/>
          </a:xfrm>
        </p:grpSpPr>
        <p:sp>
          <p:nvSpPr>
            <p:cNvPr id="161" name=""/>
            <p:cNvSpPr/>
            <p:nvPr/>
          </p:nvSpPr>
          <p:spPr>
            <a:xfrm>
              <a:off x="6730920" y="5386320"/>
              <a:ext cx="236232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40720" y="5448240"/>
              <a:ext cx="2142360" cy="62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Responsible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(The doe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Accountable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(The decide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Consult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(The one to ask befor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Inform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(The one to be informed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60200" y="152280"/>
            <a:ext cx="7925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15880" y="5105520"/>
            <a:ext cx="9000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/>
  <dc:language>en-US</dc:language>
  <cp:lastModifiedBy>d003179</cp:lastModifiedBy>
  <cp:lastPrinted>2000-05-10T17:23:18Z</cp:lastPrinted>
  <dcterms:modified xsi:type="dcterms:W3CDTF">2003-11-21T12:49:59Z</dcterms:modified>
  <cp:revision>456</cp:revision>
  <dc:subject/>
  <dc:title>EP Sample Project Roles and Responsibilities</dc:title>
</cp:coreProperties>
</file>